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CHIMES.WAV" ContentType="audio/x-wav"/>
  <Override PartName="/ppt/media/PROJCTOR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ACF-9B28-4D76-BBDD-F69AE85B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A46-F343-4748-9347-79DFCAFD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F6E-CB58-4684-B231-56061AF0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BE7-07A0-4D7F-9D7D-3CBA0C71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4666-7C7C-48D8-B8DB-682F0B37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F01B-3146-4F9E-8F68-47647B4F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07DE-630B-4B8A-BDE2-230615DF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A863-EA60-4399-839A-A989C71A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0DF9-1FA6-4483-82A8-FFD4CECD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B037-EA49-45FB-A2D6-C7A9BB81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B593-3822-41D0-82D6-84137FE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AAB-FA7F-4C0E-96CA-69CC275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41E4-37CE-4EC2-B656-1D171159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E252-3F18-4678-8DD3-1062590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F5E6-12F2-4763-9335-D3072501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2F8C-6F30-4071-9E35-449A70AD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1BEB-B563-481F-86E7-A06F2786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3AF-4DF8-47C9-9FA5-62B382EC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347-1B89-4B95-94D5-BAF0F1DD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CA7-3199-4F9E-A1C3-E473963C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864-513E-457E-8022-0E23BB49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391-E777-492C-9C27-343866B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940-6B96-49E7-BC79-D3C457F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5E9-E46B-4192-A56F-41A8AF16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6A42-5992-4CB7-9913-A1D6E6F29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E874-8839-488C-93F2-3B50B5421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42.xml"/><Relationship Id="rId3" Type="http://schemas.openxmlformats.org/officeDocument/2006/relationships/slide" Target="slide32.xml"/><Relationship Id="rId4" Type="http://schemas.openxmlformats.org/officeDocument/2006/relationships/slide" Target="slide22.xml"/><Relationship Id="rId5" Type="http://schemas.openxmlformats.org/officeDocument/2006/relationships/slide" Target="slide12.xml"/><Relationship Id="rId6" Type="http://schemas.openxmlformats.org/officeDocument/2006/relationships/slide" Target="slide50.xml"/><Relationship Id="rId7" Type="http://schemas.openxmlformats.org/officeDocument/2006/relationships/slide" Target="slide40.xml"/><Relationship Id="rId8" Type="http://schemas.openxmlformats.org/officeDocument/2006/relationships/slide" Target="slide30.xml"/><Relationship Id="rId9" Type="http://schemas.openxmlformats.org/officeDocument/2006/relationships/slide" Target="slide55.xml"/><Relationship Id="rId10" Type="http://schemas.openxmlformats.org/officeDocument/2006/relationships/slide" Target="slide10.xml"/><Relationship Id="rId11" Type="http://schemas.openxmlformats.org/officeDocument/2006/relationships/slide" Target="slide48.xml"/><Relationship Id="rId12" Type="http://schemas.openxmlformats.org/officeDocument/2006/relationships/slide" Target="slide38.xml"/><Relationship Id="rId13" Type="http://schemas.openxmlformats.org/officeDocument/2006/relationships/slide" Target="slide28.xml"/><Relationship Id="rId14" Type="http://schemas.openxmlformats.org/officeDocument/2006/relationships/slide" Target="slide18.xml"/><Relationship Id="rId15" Type="http://schemas.openxmlformats.org/officeDocument/2006/relationships/slide" Target="slide8.xml"/><Relationship Id="rId16" Type="http://schemas.openxmlformats.org/officeDocument/2006/relationships/slide" Target="slide46.xml"/><Relationship Id="rId17" Type="http://schemas.openxmlformats.org/officeDocument/2006/relationships/slide" Target="slide36.xml"/><Relationship Id="rId18" Type="http://schemas.openxmlformats.org/officeDocument/2006/relationships/slide" Target="slide26.xml"/><Relationship Id="rId19" Type="http://schemas.openxmlformats.org/officeDocument/2006/relationships/slide" Target="slide16.xml"/><Relationship Id="rId20" Type="http://schemas.openxmlformats.org/officeDocument/2006/relationships/slide" Target="slide6.xml"/><Relationship Id="rId21" Type="http://schemas.openxmlformats.org/officeDocument/2006/relationships/slide" Target="slide44.xml"/><Relationship Id="rId22" Type="http://schemas.openxmlformats.org/officeDocument/2006/relationships/slide" Target="slide34.xml"/><Relationship Id="rId23" Type="http://schemas.openxmlformats.org/officeDocument/2006/relationships/slide" Target="slide24.xml"/><Relationship Id="rId24" Type="http://schemas.openxmlformats.org/officeDocument/2006/relationships/slide" Target="slide14.xml"/><Relationship Id="rId25" Type="http://schemas.openxmlformats.org/officeDocument/2006/relationships/slide" Target="slide4.xml"/><Relationship Id="rId26" Type="http://schemas.openxmlformats.org/officeDocument/2006/relationships/slide" Target="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61920" y="2324160"/>
            <a:ext cx="7315200" cy="338580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ize each of the following human diseases as bacterial/viral/or protist: Herpes, Gonorrhea, Giardiasis, Rubella, Malaria, Measles, Teta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RANDOM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61920" y="2324160"/>
            <a:ext cx="7315200" cy="2859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                     Virus                      Prot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norrh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p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tan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Rubel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ature that apparently evolved only within the group under consideration. (ex. Feathers on a bir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RANDOM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d Character (isti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one type of Enteric 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NDOM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 or Salmon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apsule with contains a layer of sticky suga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ycocaly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s that feed on the dead or deca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proph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1760" y="3730320"/>
            <a:ext cx="8077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762120"/>
            <a:ext cx="3706920" cy="2176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s that can live with or without oxy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ative anaero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irus that invades a 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oph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heterozygous or homozygous for this disorder you are safe from this disord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6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ification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ckle Cell Anemia…Mala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lly means “false fee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220968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pod (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961920" y="2324160"/>
            <a:ext cx="7315200" cy="129240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color that gram positive bacteria turn after gram stain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1056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56080" y="538308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0520" y="538308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4640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228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1056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56080" y="4403880"/>
            <a:ext cx="155448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0520" y="4403880"/>
            <a:ext cx="155556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4640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228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1056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56080" y="342576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0520" y="342576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4640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228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0876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5464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98720" y="244800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4460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048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0876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464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98720" y="1469880"/>
            <a:ext cx="15559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4460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048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0876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98720" y="49212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4460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048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0408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996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94040" y="522360"/>
            <a:ext cx="15559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3992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26" action="ppaction://hlinksldjump"/>
          </p:cNvPr>
          <p:cNvSpPr/>
          <p:nvPr/>
        </p:nvSpPr>
        <p:spPr>
          <a:xfrm>
            <a:off x="8626320" y="6278400"/>
            <a:ext cx="300240" cy="366840"/>
          </a:xfrm>
          <a:custGeom>
            <a:avLst/>
            <a:gdLst>
              <a:gd name="textAreaLeft" fmla="*/ 19440 w 300240"/>
              <a:gd name="textAreaRight" fmla="*/ 280800 w 300240"/>
              <a:gd name="textAreaTop" fmla="*/ 19440 h 366840"/>
              <a:gd name="textAreaBottom" fmla="*/ 347400 h 366840"/>
            </a:gdLst>
            <a:ahLst/>
            <a:rect l="textAreaLeft" t="textAreaTop" r="textAreaRight" b="textAreaBottom"/>
            <a:pathLst>
              <a:path w="21600" h="26386">
                <a:moveTo>
                  <a:pt x="0" y="0"/>
                </a:moveTo>
                <a:lnTo>
                  <a:pt x="21600" y="0"/>
                </a:lnTo>
                <a:lnTo>
                  <a:pt x="21600" y="26386"/>
                </a:lnTo>
                <a:lnTo>
                  <a:pt x="0" y="26386"/>
                </a:lnTo>
                <a:close/>
              </a:path>
              <a:path fill="lightenLess" w="21600" h="263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86">
                <a:moveTo>
                  <a:pt x="21600" y="0"/>
                </a:moveTo>
                <a:lnTo>
                  <a:pt x="21600" y="26386"/>
                </a:lnTo>
                <a:lnTo>
                  <a:pt x="20200" y="24986"/>
                </a:lnTo>
                <a:lnTo>
                  <a:pt x="20200" y="1400"/>
                </a:lnTo>
                <a:close/>
              </a:path>
              <a:path fill="darkenLess" w="21600" h="26386">
                <a:moveTo>
                  <a:pt x="21600" y="26386"/>
                </a:moveTo>
                <a:lnTo>
                  <a:pt x="0" y="26386"/>
                </a:lnTo>
                <a:lnTo>
                  <a:pt x="1400" y="24986"/>
                </a:lnTo>
                <a:lnTo>
                  <a:pt x="20200" y="24986"/>
                </a:lnTo>
                <a:close/>
              </a:path>
              <a:path fill="lighten" w="21600" h="26386">
                <a:moveTo>
                  <a:pt x="0" y="263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86"/>
                </a:lnTo>
                <a:close/>
              </a:path>
              <a:path fill="darken" w="21600" h="26386">
                <a:moveTo>
                  <a:pt x="14299" y="13193"/>
                </a:moveTo>
                <a:lnTo>
                  <a:pt x="3794" y="20199"/>
                </a:lnTo>
                <a:lnTo>
                  <a:pt x="3794" y="6186"/>
                </a:lnTo>
                <a:close/>
              </a:path>
              <a:path fill="darken" w="21600" h="26386">
                <a:moveTo>
                  <a:pt x="16144" y="6186"/>
                </a:moveTo>
                <a:lnTo>
                  <a:pt x="16144" y="20199"/>
                </a:lnTo>
                <a:lnTo>
                  <a:pt x="17806" y="20199"/>
                </a:lnTo>
                <a:lnTo>
                  <a:pt x="17806" y="618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ible for the initial input of oxygen into the atm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ano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ientist who discovered the polio vacc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nas S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ea which is affected by Botu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bacteria’s DNA during harsh con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sp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they depend on host cells for replication viruses are called. (3 wor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te intracellular para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 cow’s disease is caused by this which is composed of groups of prote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7821720" y="5840280"/>
            <a:ext cx="493560" cy="55116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51160"/>
              <a:gd name="textAreaBottom" fmla="*/ 519480 h 551160"/>
            </a:gdLst>
            <a:ahLst/>
            <a:rect l="textAreaLeft" t="textAreaTop" r="textAreaRight" b="textAreaBottom"/>
            <a:pathLst>
              <a:path w="21600" h="24119">
                <a:moveTo>
                  <a:pt x="0" y="0"/>
                </a:moveTo>
                <a:lnTo>
                  <a:pt x="21600" y="0"/>
                </a:lnTo>
                <a:lnTo>
                  <a:pt x="21600" y="24119"/>
                </a:lnTo>
                <a:lnTo>
                  <a:pt x="0" y="24119"/>
                </a:lnTo>
                <a:close/>
              </a:path>
              <a:path fill="lightenLess" w="21600" h="241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19">
                <a:moveTo>
                  <a:pt x="21600" y="0"/>
                </a:moveTo>
                <a:lnTo>
                  <a:pt x="21600" y="24119"/>
                </a:lnTo>
                <a:lnTo>
                  <a:pt x="20200" y="22719"/>
                </a:lnTo>
                <a:lnTo>
                  <a:pt x="20200" y="1400"/>
                </a:lnTo>
                <a:close/>
              </a:path>
              <a:path fill="darkenLess" w="21600" h="24119">
                <a:moveTo>
                  <a:pt x="21600" y="24119"/>
                </a:moveTo>
                <a:lnTo>
                  <a:pt x="0" y="24119"/>
                </a:lnTo>
                <a:lnTo>
                  <a:pt x="1400" y="22719"/>
                </a:lnTo>
                <a:lnTo>
                  <a:pt x="20200" y="22719"/>
                </a:lnTo>
                <a:close/>
              </a:path>
              <a:path fill="lighten" w="21600" h="24119">
                <a:moveTo>
                  <a:pt x="0" y="241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19"/>
                </a:lnTo>
                <a:close/>
              </a:path>
              <a:path fill="darken" w="21600" h="24119">
                <a:moveTo>
                  <a:pt x="10800" y="160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19">
                <a:moveTo>
                  <a:pt x="11905" y="15541"/>
                </a:moveTo>
                <a:lnTo>
                  <a:pt x="11905" y="13583"/>
                </a:lnTo>
                <a:cubicBezTo>
                  <a:pt x="11905" y="12756"/>
                  <a:pt x="12236" y="12059"/>
                  <a:pt x="12837" y="12059"/>
                </a:cubicBezTo>
                <a:cubicBezTo>
                  <a:pt x="13968" y="12059"/>
                  <a:pt x="14865" y="10693"/>
                  <a:pt x="14865" y="9109"/>
                </a:cubicBezTo>
                <a:cubicBezTo>
                  <a:pt x="14865" y="6794"/>
                  <a:pt x="13011" y="5053"/>
                  <a:pt x="10800" y="5053"/>
                </a:cubicBezTo>
                <a:cubicBezTo>
                  <a:pt x="8589" y="5053"/>
                  <a:pt x="6918" y="6794"/>
                  <a:pt x="6918" y="9109"/>
                </a:cubicBezTo>
                <a:lnTo>
                  <a:pt x="8772" y="9109"/>
                </a:lnTo>
                <a:cubicBezTo>
                  <a:pt x="8772" y="7969"/>
                  <a:pt x="9695" y="7081"/>
                  <a:pt x="10800" y="7081"/>
                </a:cubicBezTo>
                <a:cubicBezTo>
                  <a:pt x="11905" y="7081"/>
                  <a:pt x="12837" y="7969"/>
                  <a:pt x="12837" y="9109"/>
                </a:cubicBezTo>
                <a:cubicBezTo>
                  <a:pt x="12837" y="9849"/>
                  <a:pt x="12367" y="10580"/>
                  <a:pt x="11905" y="10580"/>
                </a:cubicBezTo>
                <a:cubicBezTo>
                  <a:pt x="10800" y="10580"/>
                  <a:pt x="9695" y="12059"/>
                  <a:pt x="9695" y="13583"/>
                </a:cubicBezTo>
                <a:lnTo>
                  <a:pt x="9695" y="1554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RANDOM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0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the phylum to which the Amoeba, Paramecium, and Euglena belong (in that ord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61920" y="2324160"/>
            <a:ext cx="7315200" cy="31345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eba – Sarcod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cium – Cilioph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glena - Euglenophy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caused by Borrelia burgdorfe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79360" y="2384280"/>
            <a:ext cx="8559720" cy="8251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me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lors of these three phylum or algae is correct order: Chlorophyta, Phaeophyta, Rhodophy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36232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, Brown, 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f antiviral drugs that inhibit capsid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ase inhib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ranch of biology that names and groups organism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pr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mallest known particles that are able to replicate, also known as “naked DNA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o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ways to classify alga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, type of chlorophyll, form of food-storage substance, and cell wall com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14400" y="2514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Round 2 Are you ready???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61840" y="2389320"/>
            <a:ext cx="7459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The Daily Doubl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32560" y="5964120"/>
            <a:ext cx="754200" cy="363600"/>
          </a:xfrm>
          <a:custGeom>
            <a:avLst/>
            <a:gdLst>
              <a:gd name="textAreaLeft" fmla="*/ 0 w 754200"/>
              <a:gd name="textAreaRight" fmla="*/ 754560 w 7542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V ‘eye’ russ is 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causing virus: Virulant as Nondisease causing virus : 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080" y="228600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e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RANDOM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es that are genetically alte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enuat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9:10:03Z</dcterms:created>
  <dc:creator>NPSD</dc:creator>
  <dc:description/>
  <dc:language>en-US</dc:language>
  <cp:lastModifiedBy>NPSD</cp:lastModifiedBy>
  <dcterms:modified xsi:type="dcterms:W3CDTF">2009-05-13T18:31:46Z</dcterms:modified>
  <cp:revision>4</cp:revision>
  <dc:subject/>
  <dc:title>Slide 1</dc:title>
</cp:coreProperties>
</file>